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D19-9213-44B0-98C0-452006AB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87A-874D-427C-8DAA-8083183B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8D5-5D9A-4719-A631-71D3E77D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0F5-BE52-442A-9A3F-813C1D0D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136-2FE9-4280-A009-430E521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88D-3F4B-4905-A505-02AA6DC3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CFD-85CC-450A-8474-7EB87473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0F8-BF66-4D26-B042-7E681D01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D89-BC66-4A1B-8206-231A8331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623-D378-46E4-8C09-F34860E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688-CA28-4000-A977-237ED462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523-AB78-4508-8DA8-BD6B983D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DE34-AC99-464F-85E2-B5DE2F618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year1shopfitting.wikispaces.com/Geometr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651640" y="1628640"/>
            <a:ext cx="30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n ellipse using the concentric circle method you will need to know the length of the “X” axis and the length of the “Y”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0760" y="3798720"/>
            <a:ext cx="319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 set out the length of the “X” axis – “X” is the longest ax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24640" y="4863960"/>
            <a:ext cx="31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. Bisect the “X” axis – open compass out to more then ½ the length and describe an arc from each end of the “X”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325600"/>
            <a:ext cx="533520" cy="2916360"/>
          </a:xfrm>
          <a:custGeom>
            <a:avLst/>
            <a:gdLst/>
            <a:ahLst/>
            <a:rect l="l" t="t" r="r" b="b"/>
            <a:pathLst>
              <a:path w="336" h="1837">
                <a:moveTo>
                  <a:pt x="328" y="0"/>
                </a:moveTo>
                <a:cubicBezTo>
                  <a:pt x="294" y="55"/>
                  <a:pt x="194" y="179"/>
                  <a:pt x="126" y="333"/>
                </a:cubicBezTo>
                <a:cubicBezTo>
                  <a:pt x="58" y="487"/>
                  <a:pt x="0" y="737"/>
                  <a:pt x="2" y="921"/>
                </a:cubicBezTo>
                <a:cubicBezTo>
                  <a:pt x="4" y="1105"/>
                  <a:pt x="54" y="1309"/>
                  <a:pt x="104" y="1445"/>
                </a:cubicBezTo>
                <a:cubicBezTo>
                  <a:pt x="154" y="1581"/>
                  <a:pt x="216" y="1667"/>
                  <a:pt x="258" y="1735"/>
                </a:cubicBezTo>
                <a:cubicBezTo>
                  <a:pt x="300" y="1803"/>
                  <a:pt x="320" y="1816"/>
                  <a:pt x="336" y="183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43120" y="2314440"/>
            <a:ext cx="533520" cy="2928960"/>
          </a:xfrm>
          <a:custGeom>
            <a:avLst/>
            <a:gdLst/>
            <a:ahLst/>
            <a:rect l="l" t="t" r="r" b="b"/>
            <a:pathLst>
              <a:path w="336" h="1845">
                <a:moveTo>
                  <a:pt x="9" y="0"/>
                </a:moveTo>
                <a:cubicBezTo>
                  <a:pt x="43" y="56"/>
                  <a:pt x="146" y="179"/>
                  <a:pt x="215" y="336"/>
                </a:cubicBezTo>
                <a:cubicBezTo>
                  <a:pt x="284" y="493"/>
                  <a:pt x="336" y="745"/>
                  <a:pt x="334" y="929"/>
                </a:cubicBezTo>
                <a:cubicBezTo>
                  <a:pt x="332" y="1113"/>
                  <a:pt x="282" y="1317"/>
                  <a:pt x="232" y="1453"/>
                </a:cubicBezTo>
                <a:cubicBezTo>
                  <a:pt x="182" y="1589"/>
                  <a:pt x="120" y="1675"/>
                  <a:pt x="78" y="1743"/>
                </a:cubicBezTo>
                <a:cubicBezTo>
                  <a:pt x="36" y="1811"/>
                  <a:pt x="16" y="1824"/>
                  <a:pt x="0" y="184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68480"/>
            <a:ext cx="2324160" cy="1816200"/>
          </a:xfrm>
          <a:custGeom>
            <a:avLst/>
            <a:gdLst/>
            <a:ahLst/>
            <a:rect l="l" t="t" r="r" b="b"/>
            <a:pathLst>
              <a:path w="1464" h="1144">
                <a:moveTo>
                  <a:pt x="0" y="1144"/>
                </a:moveTo>
                <a:lnTo>
                  <a:pt x="856" y="0"/>
                </a:lnTo>
                <a:lnTo>
                  <a:pt x="1464" y="1144"/>
                </a:lnTo>
                <a:lnTo>
                  <a:pt x="856" y="136"/>
                </a:lnTo>
                <a:lnTo>
                  <a:pt x="0" y="114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2480" y="1957320"/>
            <a:ext cx="2324160" cy="1816200"/>
          </a:xfrm>
          <a:custGeom>
            <a:avLst/>
            <a:gdLst/>
            <a:ahLst/>
            <a:rect l="l" t="t" r="r" b="b"/>
            <a:pathLst>
              <a:path w="1464" h="1144">
                <a:moveTo>
                  <a:pt x="0" y="1144"/>
                </a:moveTo>
                <a:lnTo>
                  <a:pt x="856" y="0"/>
                </a:lnTo>
                <a:lnTo>
                  <a:pt x="1464" y="1144"/>
                </a:lnTo>
                <a:lnTo>
                  <a:pt x="856" y="136"/>
                </a:lnTo>
                <a:lnTo>
                  <a:pt x="0" y="114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500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52920" y="1474920"/>
            <a:ext cx="31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 Set out the length of the “Y” axis – “Y” is the shortest axis. Mark off the length of the “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0760" y="36734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325600"/>
            <a:ext cx="533520" cy="2916360"/>
          </a:xfrm>
          <a:custGeom>
            <a:avLst/>
            <a:gdLst/>
            <a:ahLst/>
            <a:rect l="l" t="t" r="r" b="b"/>
            <a:pathLst>
              <a:path w="336" h="1837">
                <a:moveTo>
                  <a:pt x="328" y="0"/>
                </a:moveTo>
                <a:cubicBezTo>
                  <a:pt x="294" y="55"/>
                  <a:pt x="194" y="179"/>
                  <a:pt x="126" y="333"/>
                </a:cubicBezTo>
                <a:cubicBezTo>
                  <a:pt x="58" y="487"/>
                  <a:pt x="0" y="737"/>
                  <a:pt x="2" y="921"/>
                </a:cubicBezTo>
                <a:cubicBezTo>
                  <a:pt x="4" y="1105"/>
                  <a:pt x="54" y="1309"/>
                  <a:pt x="104" y="1445"/>
                </a:cubicBezTo>
                <a:cubicBezTo>
                  <a:pt x="154" y="1581"/>
                  <a:pt x="216" y="1667"/>
                  <a:pt x="258" y="1735"/>
                </a:cubicBezTo>
                <a:cubicBezTo>
                  <a:pt x="300" y="1803"/>
                  <a:pt x="320" y="1816"/>
                  <a:pt x="336" y="183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43120" y="2314440"/>
            <a:ext cx="533520" cy="2928960"/>
          </a:xfrm>
          <a:custGeom>
            <a:avLst/>
            <a:gdLst/>
            <a:ahLst/>
            <a:rect l="l" t="t" r="r" b="b"/>
            <a:pathLst>
              <a:path w="336" h="1845">
                <a:moveTo>
                  <a:pt x="9" y="0"/>
                </a:moveTo>
                <a:cubicBezTo>
                  <a:pt x="43" y="56"/>
                  <a:pt x="146" y="179"/>
                  <a:pt x="215" y="336"/>
                </a:cubicBezTo>
                <a:cubicBezTo>
                  <a:pt x="284" y="493"/>
                  <a:pt x="336" y="745"/>
                  <a:pt x="334" y="929"/>
                </a:cubicBezTo>
                <a:cubicBezTo>
                  <a:pt x="332" y="1113"/>
                  <a:pt x="282" y="1317"/>
                  <a:pt x="232" y="1453"/>
                </a:cubicBezTo>
                <a:cubicBezTo>
                  <a:pt x="182" y="1589"/>
                  <a:pt x="120" y="1675"/>
                  <a:pt x="78" y="1743"/>
                </a:cubicBezTo>
                <a:cubicBezTo>
                  <a:pt x="36" y="1811"/>
                  <a:pt x="16" y="1824"/>
                  <a:pt x="0" y="184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2921040" y="1587600"/>
            <a:ext cx="0" cy="45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24560" y="2997360"/>
            <a:ext cx="308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half the length each side of the “X” ax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21040" y="2349360"/>
            <a:ext cx="965160" cy="1435320"/>
          </a:xfrm>
          <a:custGeom>
            <a:avLst/>
            <a:gdLst/>
            <a:ahLst/>
            <a:rect l="l" t="t" r="r" b="b"/>
            <a:pathLst>
              <a:path w="608" h="904">
                <a:moveTo>
                  <a:pt x="0" y="904"/>
                </a:moveTo>
                <a:lnTo>
                  <a:pt x="608" y="448"/>
                </a:lnTo>
                <a:lnTo>
                  <a:pt x="0" y="0"/>
                </a:lnTo>
                <a:lnTo>
                  <a:pt x="480" y="440"/>
                </a:lnTo>
                <a:lnTo>
                  <a:pt x="0" y="90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3060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22480" y="3798720"/>
            <a:ext cx="965160" cy="1435320"/>
          </a:xfrm>
          <a:custGeom>
            <a:avLst/>
            <a:gdLst/>
            <a:ahLst/>
            <a:rect l="l" t="t" r="r" b="b"/>
            <a:pathLst>
              <a:path w="608" h="904">
                <a:moveTo>
                  <a:pt x="0" y="904"/>
                </a:moveTo>
                <a:lnTo>
                  <a:pt x="608" y="448"/>
                </a:lnTo>
                <a:lnTo>
                  <a:pt x="0" y="0"/>
                </a:lnTo>
                <a:lnTo>
                  <a:pt x="480" y="440"/>
                </a:lnTo>
                <a:lnTo>
                  <a:pt x="0" y="90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52196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8760" y="12826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57600" y="6173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08640" y="1409760"/>
            <a:ext cx="31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. Set a compass to the “Y” radius and describe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0760" y="36734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21040" y="1587600"/>
            <a:ext cx="0" cy="45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3060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2196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68760" y="12826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7600" y="6173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376360"/>
            <a:ext cx="31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5. Set a compass the “X” radius and describe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08440" y="2349360"/>
            <a:ext cx="1130040" cy="1435320"/>
          </a:xfrm>
          <a:custGeom>
            <a:avLst/>
            <a:gdLst/>
            <a:ahLst/>
            <a:rect l="l" t="t" r="r" b="b"/>
            <a:pathLst>
              <a:path w="712" h="904">
                <a:moveTo>
                  <a:pt x="8" y="0"/>
                </a:moveTo>
                <a:lnTo>
                  <a:pt x="712" y="448"/>
                </a:lnTo>
                <a:lnTo>
                  <a:pt x="0" y="904"/>
                </a:lnTo>
                <a:lnTo>
                  <a:pt x="560" y="448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1040" y="3784680"/>
            <a:ext cx="2070000" cy="1015920"/>
          </a:xfrm>
          <a:custGeom>
            <a:avLst/>
            <a:gdLst/>
            <a:ahLst/>
            <a:rect l="l" t="t" r="r" b="b"/>
            <a:pathLst>
              <a:path w="1304" h="640">
                <a:moveTo>
                  <a:pt x="0" y="0"/>
                </a:moveTo>
                <a:lnTo>
                  <a:pt x="632" y="640"/>
                </a:lnTo>
                <a:lnTo>
                  <a:pt x="1304" y="0"/>
                </a:lnTo>
                <a:lnTo>
                  <a:pt x="648" y="49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1040" y="1714680"/>
            <a:ext cx="4140000" cy="4140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0520" y="2349360"/>
            <a:ext cx="2921040" cy="2870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0760" y="36734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21040" y="1587600"/>
            <a:ext cx="0" cy="45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3060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52196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68760" y="12826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57600" y="6173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1040" y="1714680"/>
            <a:ext cx="4140000" cy="4140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60520" y="2349360"/>
            <a:ext cx="2921040" cy="2870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373040"/>
            <a:ext cx="319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. using set squares break the circle up into 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46360" y="1828800"/>
            <a:ext cx="2317680" cy="401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5640" y="1422360"/>
            <a:ext cx="1282680" cy="4786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6280" y="2590920"/>
            <a:ext cx="4179960" cy="241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53840" y="3187800"/>
            <a:ext cx="4452840" cy="119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11560" y="1473120"/>
            <a:ext cx="1307880" cy="488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89120" y="1650960"/>
            <a:ext cx="2662200" cy="4610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3320" y="1879560"/>
            <a:ext cx="3733920" cy="3733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960" y="2527200"/>
            <a:ext cx="4884840" cy="2819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149640"/>
            <a:ext cx="4976640" cy="1333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257120" y="2031840"/>
            <a:ext cx="3429000" cy="3429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0760" y="36734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21040" y="1587600"/>
            <a:ext cx="0" cy="45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060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196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68760" y="12826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57600" y="6173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040" y="1714680"/>
            <a:ext cx="4140000" cy="4140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0520" y="2349360"/>
            <a:ext cx="2921040" cy="2870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746360" y="1828800"/>
            <a:ext cx="2317680" cy="401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285640" y="1422360"/>
            <a:ext cx="1282680" cy="4786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6280" y="2590920"/>
            <a:ext cx="4179960" cy="241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53840" y="3187800"/>
            <a:ext cx="4452840" cy="119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11560" y="1473120"/>
            <a:ext cx="1307880" cy="488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9120" y="1650960"/>
            <a:ext cx="2662200" cy="4610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03320" y="1879560"/>
            <a:ext cx="3733920" cy="3733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960" y="2527200"/>
            <a:ext cx="4884840" cy="2819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149640"/>
            <a:ext cx="4976640" cy="1333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57120" y="2031840"/>
            <a:ext cx="3429000" cy="3429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1880" y="1641600"/>
            <a:ext cx="31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. Using set squares measure out and down from the circle intersect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89320" y="2400480"/>
            <a:ext cx="216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7160" y="1778040"/>
            <a:ext cx="0" cy="654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30800" y="3429000"/>
            <a:ext cx="619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24440" y="3263760"/>
            <a:ext cx="0" cy="196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8160" y="2765520"/>
            <a:ext cx="0" cy="342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84640" y="3070080"/>
            <a:ext cx="600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49560" y="2765520"/>
            <a:ext cx="463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87680" y="2327400"/>
            <a:ext cx="0" cy="4633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5400" y="2000160"/>
            <a:ext cx="0" cy="568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1120" y="254304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90760" y="1781280"/>
            <a:ext cx="0" cy="641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52240" y="2397240"/>
            <a:ext cx="2034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86040" y="1990800"/>
            <a:ext cx="0" cy="64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60480" y="2536920"/>
            <a:ext cx="339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50800" y="2330280"/>
            <a:ext cx="0" cy="48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406160" y="2771640"/>
            <a:ext cx="485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23920" y="2759040"/>
            <a:ext cx="0" cy="419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73160" y="3063960"/>
            <a:ext cx="581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27348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879120" y="3432240"/>
            <a:ext cx="6253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403360" y="5151240"/>
            <a:ext cx="0" cy="663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359080" y="5176800"/>
            <a:ext cx="203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898640" y="4960440"/>
            <a:ext cx="0" cy="6447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873080" y="5037120"/>
            <a:ext cx="339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63760" y="4779720"/>
            <a:ext cx="0" cy="485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19120" y="4815000"/>
            <a:ext cx="486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136520" y="4411800"/>
            <a:ext cx="0" cy="419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85760" y="4529160"/>
            <a:ext cx="581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27000" y="412272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92080" y="4176720"/>
            <a:ext cx="625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68600" y="5144760"/>
            <a:ext cx="0" cy="663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00480" y="5170320"/>
            <a:ext cx="203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949560" y="4959360"/>
            <a:ext cx="0" cy="64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45000" y="5035680"/>
            <a:ext cx="339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70400" y="4773240"/>
            <a:ext cx="0" cy="485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38760" y="4818240"/>
            <a:ext cx="485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07000" y="4405320"/>
            <a:ext cx="0" cy="419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6720" y="4513320"/>
            <a:ext cx="581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16520" y="413064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1080" y="4179960"/>
            <a:ext cx="625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9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1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74760" y="1282680"/>
            <a:ext cx="5059080" cy="5259240"/>
            <a:chOff x="374760" y="1282680"/>
            <a:chExt cx="5059080" cy="5259240"/>
          </a:xfrm>
        </p:grpSpPr>
        <p:sp>
          <p:nvSpPr>
            <p:cNvPr id="181" name=""/>
            <p:cNvSpPr/>
            <p:nvPr/>
          </p:nvSpPr>
          <p:spPr>
            <a:xfrm>
              <a:off x="684360" y="3789360"/>
              <a:ext cx="44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91040" y="36813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760" y="36100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8960" y="367200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00760" y="367344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21040" y="1587600"/>
              <a:ext cx="0" cy="45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30600" y="2349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43200" y="52196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68760" y="128268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57600" y="61736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1040" y="1714680"/>
              <a:ext cx="4140000" cy="4140000"/>
            </a:xfrm>
            <a:prstGeom prst="ellipse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349360"/>
              <a:ext cx="2921040" cy="28702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746360" y="1828800"/>
              <a:ext cx="2317680" cy="4013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85640" y="1422360"/>
              <a:ext cx="1282680" cy="478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36280" y="2590920"/>
              <a:ext cx="4179960" cy="241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53840" y="3187800"/>
              <a:ext cx="4452840" cy="1193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11560" y="1473120"/>
              <a:ext cx="1307880" cy="488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9120" y="1650960"/>
              <a:ext cx="2662200" cy="4610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03320" y="1879560"/>
              <a:ext cx="3733920" cy="3733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3149640"/>
              <a:ext cx="4976640" cy="1333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257120" y="2031840"/>
              <a:ext cx="342900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89320" y="24004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67160" y="1778040"/>
              <a:ext cx="0" cy="654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30800" y="3429000"/>
              <a:ext cx="619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24440" y="3263760"/>
              <a:ext cx="0" cy="196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8160" y="2765520"/>
              <a:ext cx="0" cy="342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84640" y="3070080"/>
              <a:ext cx="600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49560" y="2765520"/>
              <a:ext cx="463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87680" y="2327400"/>
              <a:ext cx="0" cy="463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5400" y="2000160"/>
              <a:ext cx="0" cy="568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1120" y="2543040"/>
              <a:ext cx="35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90760" y="1781280"/>
              <a:ext cx="0" cy="641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352240" y="2397240"/>
              <a:ext cx="2034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86040" y="1990800"/>
              <a:ext cx="0" cy="644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860480" y="2536920"/>
              <a:ext cx="339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50800" y="2330280"/>
              <a:ext cx="0" cy="486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406160" y="2771640"/>
              <a:ext cx="485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23920" y="275904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73160" y="306396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27348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79120" y="3432240"/>
              <a:ext cx="6253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403360" y="5151240"/>
              <a:ext cx="0" cy="663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359080" y="5176800"/>
              <a:ext cx="203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898640" y="4960440"/>
              <a:ext cx="0" cy="64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73080" y="5037120"/>
              <a:ext cx="339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463760" y="4779720"/>
              <a:ext cx="0" cy="485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419120" y="4815000"/>
              <a:ext cx="48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136520" y="441180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085760" y="452916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927000" y="412272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92080" y="4176720"/>
              <a:ext cx="625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468600" y="5144760"/>
              <a:ext cx="0" cy="663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00480" y="5170320"/>
              <a:ext cx="203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949560" y="4959360"/>
              <a:ext cx="0" cy="644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45000" y="5035680"/>
              <a:ext cx="339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370400" y="4773240"/>
              <a:ext cx="0" cy="485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38760" y="4818240"/>
              <a:ext cx="485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707000" y="440532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6720" y="451332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916520" y="413064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21080" y="4179960"/>
              <a:ext cx="625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5475240" y="1679400"/>
            <a:ext cx="31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8. Mark a line joining the intersecting points to form the 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7160" y="2336760"/>
            <a:ext cx="206388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55720" y="3778200"/>
            <a:ext cx="206352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932200" y="2335320"/>
            <a:ext cx="206352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35440" y="3781440"/>
            <a:ext cx="206352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554040" y="1461960"/>
            <a:ext cx="5059080" cy="5259240"/>
            <a:chOff x="554040" y="1461960"/>
            <a:chExt cx="5059080" cy="5259240"/>
          </a:xfrm>
        </p:grpSpPr>
        <p:sp>
          <p:nvSpPr>
            <p:cNvPr id="249" name=""/>
            <p:cNvSpPr/>
            <p:nvPr/>
          </p:nvSpPr>
          <p:spPr>
            <a:xfrm>
              <a:off x="863640" y="3968640"/>
              <a:ext cx="44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70320" y="386064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4040" y="3789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8240" y="385128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0040" y="385272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00320" y="1766880"/>
              <a:ext cx="0" cy="45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09880" y="2528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2480" y="539892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8040" y="146196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6880" y="635292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30320" y="1893960"/>
              <a:ext cx="4140000" cy="4140000"/>
            </a:xfrm>
            <a:prstGeom prst="ellipse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39800" y="2528640"/>
              <a:ext cx="2921040" cy="28702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25640" y="2008080"/>
              <a:ext cx="2317680" cy="4013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64920" y="1601640"/>
              <a:ext cx="1282680" cy="478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015560" y="2770200"/>
              <a:ext cx="4179960" cy="241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933120" y="3367080"/>
              <a:ext cx="4452840" cy="1193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90840" y="1652400"/>
              <a:ext cx="1307880" cy="488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68400" y="1830240"/>
              <a:ext cx="2662200" cy="4610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82600" y="2058840"/>
              <a:ext cx="3733920" cy="3733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6480" y="3328920"/>
              <a:ext cx="4976640" cy="1333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436400" y="2211120"/>
              <a:ext cx="342900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68600" y="25797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46440" y="1957320"/>
              <a:ext cx="0" cy="654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10080" y="3608280"/>
              <a:ext cx="619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3720" y="3443040"/>
              <a:ext cx="0" cy="196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97440" y="2944800"/>
              <a:ext cx="0" cy="342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249360"/>
              <a:ext cx="600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28840" y="2944800"/>
              <a:ext cx="463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66960" y="2506680"/>
              <a:ext cx="0" cy="463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44680" y="2179440"/>
              <a:ext cx="0" cy="568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0400" y="2722320"/>
              <a:ext cx="35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70040" y="1960560"/>
              <a:ext cx="0" cy="641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531520" y="2576520"/>
              <a:ext cx="2034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65320" y="2170080"/>
              <a:ext cx="0" cy="644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039760" y="2716200"/>
              <a:ext cx="339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30080" y="2509560"/>
              <a:ext cx="0" cy="486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585440" y="2950920"/>
              <a:ext cx="485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03200" y="293832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252440" y="324324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3680" y="345276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058400" y="3611520"/>
              <a:ext cx="6253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82640" y="5330520"/>
              <a:ext cx="0" cy="663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538360" y="5356080"/>
              <a:ext cx="203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77920" y="5139720"/>
              <a:ext cx="0" cy="64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052360" y="5216400"/>
              <a:ext cx="339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643040" y="4959000"/>
              <a:ext cx="0" cy="485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598400" y="4994280"/>
              <a:ext cx="48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315800" y="459108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265040" y="470844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106280" y="430200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071360" y="4356000"/>
              <a:ext cx="625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647880" y="5324040"/>
              <a:ext cx="0" cy="663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79760" y="5349600"/>
              <a:ext cx="203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128840" y="5138640"/>
              <a:ext cx="0" cy="644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24280" y="5214960"/>
              <a:ext cx="339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549680" y="4952520"/>
              <a:ext cx="0" cy="485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18040" y="4997520"/>
              <a:ext cx="485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886280" y="458460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56000" y="469260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095800" y="430992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00360" y="4359240"/>
              <a:ext cx="625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099120" y="2709720"/>
            <a:ext cx="253368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e have now created the an ellipse using the concentric circle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y the exercises found at the Shopfitting wikispace at the URL below to perfect your techni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ear1shopfitting.wikispaces.com/Ge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36800" y="2516040"/>
            <a:ext cx="206352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035000" y="3956760"/>
            <a:ext cx="2063880" cy="144972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110760" y="2514600"/>
            <a:ext cx="206388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3114000" y="3960720"/>
            <a:ext cx="206388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1031760" y="2517840"/>
            <a:ext cx="4149720" cy="2892240"/>
          </a:xfrm>
          <a:prstGeom prst="ellipse">
            <a:avLst/>
          </a:prstGeom>
          <a:gradFill rotWithShape="0">
            <a:gsLst>
              <a:gs pos="0">
                <a:srgbClr val="6d2934"/>
              </a:gs>
              <a:gs pos="50000">
                <a:srgbClr val="ed5972"/>
              </a:gs>
              <a:gs pos="100000">
                <a:srgbClr val="6d293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0:11:15Z</dcterms:created>
  <dc:creator>gcheetham</dc:creator>
  <dc:description/>
  <dc:language>en-US</dc:language>
  <cp:lastModifiedBy>gcheetham</cp:lastModifiedBy>
  <dcterms:modified xsi:type="dcterms:W3CDTF">2007-10-30T01:36:00Z</dcterms:modified>
  <cp:revision>6</cp:revision>
  <dc:subject/>
  <dc:title>Slide 1</dc:title>
</cp:coreProperties>
</file>